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0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3.jpeg" ContentType="image/jpeg"/>
  <Override PartName="/ppt/media/hail%20to%20the%20chief.wav" ContentType="audio/x-wav"/>
  <Override PartName="/ppt/media/image8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0795E-76D2-44B1-9FCC-98AA3620C8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esidential Ele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19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idential Ele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19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ks to video cli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HERE to view a 4 minute clip of the debate between Kennedy and Nix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HERE to view JFK’s entire Inauguration and Inaugural Addr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s to video cl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HERE to view a 4 minute clip of the debate between Kennedy and Nix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HERE to view JFK’s entire Inauguration and Inaugural Add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andidates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R) Richard M. Nix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) John F. Kenne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ndidate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R) Richard M. Nix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) 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ground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chard Nix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rn 1913 in Yorba Linda, Californ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tier College and Duke Law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t. Commander in US Navy during WW I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ed to House in 1946, Senate 195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ce-President under Ike for 8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Kenne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rn in Brookline, Massachusetts in 19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rvar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t. in US Navy; Pt109 Comma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ed to House in 1946, Senate 195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blished Profiles in Courage 1957 – wins Pulitzer Pr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ground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hard Nix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1913 in Yorba Linda, Califor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tier College and Duke Law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. Commander in US Navy during WW 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ed to House in 1946, Senate 195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e-President under Ike for 8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in Brookline, Massachusetts in 19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var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. in US Navy; Pt109 Comm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ed to House in 1946, Senate 19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shed Profiles in Courage 1957 – wins Pulitzer Pr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ace for the office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th men were young, military veterans, lawyers, had political experience and similar view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ever, many historians believe there were (2) important factors that decided the race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ce for the offic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men were young, military veterans, lawyers, had political experience and similar vie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many historians believe there were (2) important factors that decided the race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evised Deb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televised debates in histo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0 million viewers tuned in, more on radi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rst debate, the telegenic Kennedy won the image battle over Nixon who, recovering from the flu, appeared pale and refused make-up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vised Deb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televised debates in histo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 million viewers tuned in, more on rad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debate, the telegenic Kennedy won the image battle over Nixon who, recovering from the flu, appeared pale and refused make-u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FK and MLK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Reverend Martin Luther King was arrested in Atlanta, Kennedy called to offer his sympath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garnered Kennedy substantial African-American support in the 1960 el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FK and MLK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Reverend Martin Luther King was arrested in Atlanta, Kennedy called to offer his sympath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arnered Kennedy substantial African-American support in the 1960 e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ion results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ion result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nnedy’s Inaugural Addres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ident John F. Kennedy delivers his inaugural address at Capitol Hill in Jan. 20, 196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nnedy said, "We shall pay any price, bear any burden, meet any hardship, support any friend, oppose any foe, to assure the survival and success of liberty.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nnedy’s Inaugural Addr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John F. Kennedy delivers his inaugural address at Capitol Hill in Jan. 20, 196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nnedy said, "We shall pay any price, bear any burden, meet any hardship, support any friend, oppose any foe, to assure the survival and success of liberty.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E9AB-C7A1-4B76-A127-30B097B38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979D-5A36-48E8-9EBA-2382E5238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A51B-F9D8-4029-8551-E309892F4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E6D1-7676-4C62-812F-622D2D6BC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D59B-CC2C-4F4C-8716-94769F2C7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70C2-49EC-4E02-A086-0C94EC49B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685D-9F03-46FD-936A-57AC68F05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FE70-40D7-4DB3-9EA3-7EBB24385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8148-4F1D-442C-8656-D3E678D54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C74F-BAC4-4FFD-A9D8-5DFF089E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D836-5553-4A2B-8D7C-D66CBF34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D9F3-C433-49C3-A9B2-E0646A14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08834-E9E1-4004-9A59-A184B824C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audio" Target="../media/hail%20to%20the%20chief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285640"/>
            <a:ext cx="87631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Felix Titling"/>
              </a:rPr>
              <a:t>The Presidential Elec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Felix Titling"/>
              </a:rPr>
              <a:t>of 196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3" descr="JFKbutton"/>
          <p:cNvPicPr/>
          <p:nvPr/>
        </p:nvPicPr>
        <p:blipFill>
          <a:blip r:embed="rId1"/>
          <a:stretch/>
        </p:blipFill>
        <p:spPr>
          <a:xfrm>
            <a:off x="0" y="4767120"/>
            <a:ext cx="2133720" cy="2090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4" descr="nixon button"/>
          <p:cNvPicPr/>
          <p:nvPr/>
        </p:nvPicPr>
        <p:blipFill>
          <a:blip r:embed="rId2"/>
          <a:stretch/>
        </p:blipFill>
        <p:spPr>
          <a:xfrm>
            <a:off x="6858000" y="4767120"/>
            <a:ext cx="2286000" cy="2090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5" descr="seal-presidential-color"/>
          <p:cNvPicPr/>
          <p:nvPr/>
        </p:nvPicPr>
        <p:blipFill>
          <a:blip r:embed="rId3"/>
          <a:stretch/>
        </p:blipFill>
        <p:spPr>
          <a:xfrm>
            <a:off x="0" y="0"/>
            <a:ext cx="1741320" cy="1752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6" descr="seal-presidential-color"/>
          <p:cNvPicPr/>
          <p:nvPr/>
        </p:nvPicPr>
        <p:blipFill>
          <a:blip r:embed="rId4"/>
          <a:stretch/>
        </p:blipFill>
        <p:spPr>
          <a:xfrm>
            <a:off x="7402680" y="0"/>
            <a:ext cx="1741320" cy="175248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Felix Titling"/>
              </a:rPr>
              <a:t>Links to video cl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40384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HERE to view a 4 minute clip of the debate between Kennedy and Nix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HERE to view JFK’s entire Inauguration and Inaugural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1066680" y="380880"/>
            <a:ext cx="66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Franklin Gothic Medium"/>
              </a:rPr>
              <a:t>The En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ookman Old Style"/>
              </a:rPr>
              <a:t>The Candidates…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Nixon Time"/>
          <p:cNvPicPr/>
          <p:nvPr/>
        </p:nvPicPr>
        <p:blipFill>
          <a:blip r:embed="rId1"/>
          <a:stretch/>
        </p:blipFill>
        <p:spPr>
          <a:xfrm>
            <a:off x="533520" y="1371600"/>
            <a:ext cx="3584520" cy="4724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Ken poster"/>
          <p:cNvPicPr/>
          <p:nvPr/>
        </p:nvPicPr>
        <p:blipFill>
          <a:blip r:embed="rId2"/>
          <a:stretch/>
        </p:blipFill>
        <p:spPr>
          <a:xfrm>
            <a:off x="5257800" y="1447920"/>
            <a:ext cx="3324240" cy="4647960"/>
          </a:xfrm>
          <a:prstGeom prst="rect">
            <a:avLst/>
          </a:prstGeom>
          <a:ln w="0">
            <a:noFill/>
          </a:ln>
        </p:spPr>
      </p:pic>
      <p:sp>
        <p:nvSpPr>
          <p:cNvPr id="58" name="WordArt 8"/>
          <p:cNvSpPr txBox="1"/>
          <p:nvPr/>
        </p:nvSpPr>
        <p:spPr>
          <a:xfrm>
            <a:off x="304920" y="6248520"/>
            <a:ext cx="40384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(R) Richard M. Nixon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9" name="WordArt 9"/>
          <p:cNvSpPr txBox="1"/>
          <p:nvPr/>
        </p:nvSpPr>
        <p:spPr>
          <a:xfrm>
            <a:off x="4876920" y="6248520"/>
            <a:ext cx="4010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(D) John F. Kennedy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Felix Titling"/>
              </a:rPr>
              <a:t>Background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648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Richard Nix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rn 1913 in Yorba Linda, Califor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ttier College and Duke Law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t. Commander in US Navy during WW 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ed to House in 1946, Senate 195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ce-President under Ike for 8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343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John Kenne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rn in Brookline, Massachusetts in 19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v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t. in US Navy; Pt109 Comma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ed to House in 1946, Senate 19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shed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ofiles 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urag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57 – wins Pulitzer P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9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9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9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9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9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Bookman Old Style"/>
              </a:rPr>
              <a:t>The race for the office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th men were young, military veterans, lawyers, had political experience and similar vie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ever, many historians believe there were (2) important factors that decided the race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both shaking hands"/>
          <p:cNvPicPr/>
          <p:nvPr/>
        </p:nvPicPr>
        <p:blipFill>
          <a:blip r:embed="rId1"/>
          <a:stretch/>
        </p:blipFill>
        <p:spPr>
          <a:xfrm>
            <a:off x="4952880" y="1523880"/>
            <a:ext cx="3676680" cy="2762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" descr="jfk_next_pres_button"/>
          <p:cNvPicPr/>
          <p:nvPr/>
        </p:nvPicPr>
        <p:blipFill>
          <a:blip r:embed="rId2"/>
          <a:stretch/>
        </p:blipFill>
        <p:spPr>
          <a:xfrm>
            <a:off x="4800600" y="4648320"/>
            <a:ext cx="1778040" cy="1739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" descr="nixon button"/>
          <p:cNvPicPr/>
          <p:nvPr/>
        </p:nvPicPr>
        <p:blipFill>
          <a:blip r:embed="rId3"/>
          <a:stretch/>
        </p:blipFill>
        <p:spPr>
          <a:xfrm>
            <a:off x="6934320" y="4724280"/>
            <a:ext cx="1828800" cy="167328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Bookman Old Style"/>
              </a:rPr>
              <a:t>Televised Debat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953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rst televised debates in hist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0 million viewers tuned in, more on rad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irst debate, the telegenic Kennedy won the image battle over Nixon who, recovering from the flu, appeared pale and refused make-u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pre debate photo"/>
          <p:cNvPicPr/>
          <p:nvPr/>
        </p:nvPicPr>
        <p:blipFill>
          <a:blip r:embed="rId2"/>
          <a:stretch/>
        </p:blipFill>
        <p:spPr>
          <a:xfrm>
            <a:off x="6172200" y="1295280"/>
            <a:ext cx="2560680" cy="3657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1960 Debate"/>
          <p:cNvPicPr/>
          <p:nvPr/>
        </p:nvPicPr>
        <p:blipFill>
          <a:blip r:embed="rId3"/>
          <a:stretch/>
        </p:blipFill>
        <p:spPr>
          <a:xfrm>
            <a:off x="5105520" y="4267080"/>
            <a:ext cx="3200400" cy="236232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Bookman Old Style"/>
              </a:rPr>
              <a:t>JFK and MLK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 Reverend Martin Luther King was arrested in Atlanta, Kennedy called to offer his sympath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garnered Kennedy substantial African-American support in the 1960 el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MLK/JFK Poster"/>
          <p:cNvPicPr/>
          <p:nvPr/>
        </p:nvPicPr>
        <p:blipFill>
          <a:blip r:embed="rId1"/>
          <a:stretch/>
        </p:blipFill>
        <p:spPr>
          <a:xfrm>
            <a:off x="5410080" y="1290600"/>
            <a:ext cx="3276720" cy="2583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mlkkennedy"/>
          <p:cNvPicPr/>
          <p:nvPr/>
        </p:nvPicPr>
        <p:blipFill>
          <a:blip r:embed="rId2"/>
          <a:stretch/>
        </p:blipFill>
        <p:spPr>
          <a:xfrm>
            <a:off x="5334120" y="4038480"/>
            <a:ext cx="3429000" cy="266076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Franklin Gothic Medium"/>
              </a:rPr>
              <a:t>Election results…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electoral"/>
          <p:cNvPicPr/>
          <p:nvPr/>
        </p:nvPicPr>
        <p:blipFill>
          <a:blip r:embed="rId1"/>
          <a:stretch/>
        </p:blipFill>
        <p:spPr>
          <a:xfrm>
            <a:off x="5943600" y="990720"/>
            <a:ext cx="3021120" cy="3962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popular"/>
          <p:cNvPicPr/>
          <p:nvPr/>
        </p:nvPicPr>
        <p:blipFill>
          <a:blip r:embed="rId2"/>
          <a:stretch/>
        </p:blipFill>
        <p:spPr>
          <a:xfrm>
            <a:off x="457200" y="1447920"/>
            <a:ext cx="4191120" cy="4160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results"/>
          <p:cNvPicPr/>
          <p:nvPr/>
        </p:nvPicPr>
        <p:blipFill>
          <a:blip r:embed="rId3"/>
          <a:stretch/>
        </p:blipFill>
        <p:spPr>
          <a:xfrm>
            <a:off x="2971800" y="5051520"/>
            <a:ext cx="6172200" cy="180648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Kennedy’s Inaugural Addres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sident John F. Kennedy delivers his inaugural address at Capitol Hill in Jan. 20, 196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nnedy said,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"We shall pay any price, bear any burden, meet any hardship, support any friend, oppose any foe, to assure the survival and success of liberty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Inauguarl"/>
          <p:cNvPicPr/>
          <p:nvPr/>
        </p:nvPicPr>
        <p:blipFill>
          <a:blip r:embed="rId1"/>
          <a:stretch/>
        </p:blipFill>
        <p:spPr>
          <a:xfrm>
            <a:off x="4648320" y="1828800"/>
            <a:ext cx="4495680" cy="33764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1"/>
          <p:cNvSpPr/>
          <p:nvPr/>
        </p:nvSpPr>
        <p:spPr>
          <a:xfrm>
            <a:off x="4495680" y="5334120"/>
            <a:ext cx="3353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5T13:42:44Z</dcterms:created>
  <dc:creator>dgreenberg</dc:creator>
  <dc:description/>
  <dc:language>en-US</dc:language>
  <cp:lastModifiedBy>Legion</cp:lastModifiedBy>
  <dcterms:modified xsi:type="dcterms:W3CDTF">2017-07-05T12:41:30Z</dcterms:modified>
  <cp:revision>39</cp:revision>
  <dc:subject/>
  <dc:title>The Presidential Election</dc:title>
</cp:coreProperties>
</file>